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1.jpeg" ContentType="image/jpeg"/>
  <Override PartName="/ppt/media/image7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23162-BF59-4F03-9F25-5E9C5AD4D2C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3E490-24CD-4F61-ABB0-F36E2B5B375A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5316480" cy="45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AU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6828B-BFCB-498F-9F11-BDF5681E93EA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AU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A388A-E749-4267-BB60-52B0CBC2FC9F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AU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DE17B-1BEF-49DC-86A3-58AE77302173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AU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0D8CF-3B25-456E-9247-A39645C03771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AU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F9DF3-DEE1-40B4-9901-023316943C98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584E8-C1B3-46AC-B4EB-92696456126D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AU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DCE48-170F-4545-B1F4-170D7DB4E4CD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AU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B269D-EE2E-47E4-B56D-9085EC25307B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36904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AU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5F2E3-DCCC-4956-B229-210D57DD2644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A7811-393A-40BE-8930-D603A274F5DE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AU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7233D-AE70-48CC-9DE2-3D8EBC988F2E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35703-77A7-4853-B2CC-AAA381311157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076400" y="668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45994-0DFC-4A4B-AD86-37AA6976EF08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CE77B-9CF8-4861-9B5D-994E67C4D1AF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EFE94-F164-4EFB-AAD5-E63822CD2BC6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3D68E-D217-4252-BD43-D98E2D862824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2ECA6-F0ED-4E47-9E0D-CB8546BDDF9B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AU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86F9F-CD48-45D6-AAC8-6A66A23444D7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AU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FB1D5-30EE-4C9C-B0FF-84F022965C6F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AU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A88C3-F253-4D10-9868-F209EDB4405C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AU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CBE96-8ED3-4638-8FE6-B5BBC7506B9B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43E73-4940-4861-8AF4-654327CFD62D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AU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B124E-A957-4635-9E0B-25B9E64DA2C0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9101A-B9F1-446D-8BEA-3C7D0751C2AC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AU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64745-514A-4BCF-B153-CABE4B804058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3B561-9E85-4E87-A766-62AAE31160F6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1133640" y="43099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3FA8C-3C9D-4A5F-9ED1-BCA2AF006942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C95C5-A19A-437D-8DDF-A3B4E89A7211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0DF6D-E327-4964-9CA6-3EDC79C1BE8C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AU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E7499-1B18-4848-A816-822E12F96F63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502920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38037-6E1A-475D-A5F9-ED7CE37693E9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AU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19F4A-61DE-432C-AE8F-22B6C99FEDBA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AU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85AA0-A23B-4162-8749-1B8CC9492233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AU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885FF1-C7A6-4B04-B776-E4D7B8F60F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A43238-2097-4E9B-85C5-519DA8BE60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722767-771B-4DE3-ABFC-A1BEEEE632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4072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604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76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4072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604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12E960-63D4-40CB-B68F-CF1E78BC48F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4A6ED8-EB12-4D2A-A4B8-72B8E61B52D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4A8609-F342-4B2C-8F95-CFDE4D43CA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FD5912-8154-477F-A76B-759D2B991D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C706D7-0AB1-4DA8-ACD7-FC66B14618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880"/>
            <a:ext cx="823752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AED129-46D0-47B6-8C90-7F0470F699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258E7A-A692-4407-AB53-7F2A568D5A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B9CFE2-40A3-422A-B6EF-35848053C1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CA03ED-0E8C-4766-808A-CBA2D9E49F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343080" indent="-343080">
              <a:spcBef>
                <a:spcPts val="1349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343080" indent="-343080">
              <a:spcBef>
                <a:spcPts val="134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3" marL="343080" indent="-343080">
              <a:spcBef>
                <a:spcPts val="1349"/>
              </a:spcBef>
              <a:buClr>
                <a:srgbClr val="ffffff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4" marL="343080" indent="-343080">
              <a:spcBef>
                <a:spcPts val="134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5" marL="343080" indent="-343080">
              <a:spcBef>
                <a:spcPts val="134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6" marL="343080" indent="-343080">
              <a:spcBef>
                <a:spcPts val="134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455400" y="6357600"/>
            <a:ext cx="415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035AE-0180-4C2A-92F0-B1642C35C77F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" name="Picture 26" descr="intelEDU_wht_lrg [Converted]"/>
          <p:cNvPicPr/>
          <p:nvPr/>
        </p:nvPicPr>
        <p:blipFill>
          <a:blip r:embed="rId2"/>
          <a:stretch/>
        </p:blipFill>
        <p:spPr>
          <a:xfrm>
            <a:off x="7547040" y="6114960"/>
            <a:ext cx="1116000" cy="557280"/>
          </a:xfrm>
          <a:prstGeom prst="rect">
            <a:avLst/>
          </a:prstGeom>
          <a:ln w="0">
            <a:noFill/>
          </a:ln>
        </p:spPr>
      </p:pic>
      <p:sp>
        <p:nvSpPr>
          <p:cNvPr id="5" name="Text Box 28"/>
          <p:cNvSpPr/>
          <p:nvPr/>
        </p:nvSpPr>
        <p:spPr>
          <a:xfrm>
            <a:off x="1079640" y="6108840"/>
            <a:ext cx="47116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Text Box 29"/>
          <p:cNvSpPr/>
          <p:nvPr/>
        </p:nvSpPr>
        <p:spPr>
          <a:xfrm>
            <a:off x="484200" y="6548400"/>
            <a:ext cx="6451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Verdana"/>
              </a:rPr>
              <a:t>Copyright © 2009 Intel Corporation. All rights reserved. Intel and the Intel logo are trademarks or registered trademarks of Intel Corporation </a:t>
            </a:r>
            <a:endParaRPr b="0" lang="en-US" sz="7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Verdana"/>
              </a:rPr>
              <a:t>or its subsidiaries in the United States and other countries.  *Other names and brands may be claimed as the property of others.</a:t>
            </a:r>
            <a:endParaRPr b="0" lang="en-US" sz="7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60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BE8B3-2886-4FCA-944A-0C0BE76781CF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Rectangle 4"/>
          <p:cNvSpPr/>
          <p:nvPr/>
        </p:nvSpPr>
        <p:spPr>
          <a:xfrm>
            <a:off x="0" y="4503600"/>
            <a:ext cx="8766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Intel</a:t>
            </a:r>
            <a:r>
              <a:rPr b="1" lang="en-US" sz="3600" spc="-1" strike="noStrike" baseline="30000">
                <a:solidFill>
                  <a:srgbClr val="ffffff"/>
                </a:solidFill>
                <a:latin typeface="Verdana"/>
              </a:rPr>
              <a:t>®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 Teach Program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Rectangle 5"/>
          <p:cNvSpPr/>
          <p:nvPr/>
        </p:nvSpPr>
        <p:spPr>
          <a:xfrm>
            <a:off x="0" y="5170320"/>
            <a:ext cx="87660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Leadership Forum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3" name="Picture 6" descr="CoreGraphic_LowRes_blue"/>
          <p:cNvPicPr/>
          <p:nvPr/>
        </p:nvPicPr>
        <p:blipFill>
          <a:blip r:embed="rId1"/>
          <a:stretch/>
        </p:blipFill>
        <p:spPr>
          <a:xfrm>
            <a:off x="557280" y="1754280"/>
            <a:ext cx="8237520" cy="25365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intelEDU_wht_lrg [Converted]"/>
          <p:cNvPicPr/>
          <p:nvPr/>
        </p:nvPicPr>
        <p:blipFill>
          <a:blip r:embed="rId2"/>
          <a:stretch/>
        </p:blipFill>
        <p:spPr>
          <a:xfrm>
            <a:off x="6707160" y="476280"/>
            <a:ext cx="177948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1369800" y="-360"/>
            <a:ext cx="6172200" cy="6488280"/>
            <a:chOff x="1369800" y="-360"/>
            <a:chExt cx="6172200" cy="6488280"/>
          </a:xfrm>
        </p:grpSpPr>
        <p:sp>
          <p:nvSpPr>
            <p:cNvPr id="85" name=""/>
            <p:cNvSpPr/>
            <p:nvPr/>
          </p:nvSpPr>
          <p:spPr>
            <a:xfrm rot="10800000">
              <a:off x="1369800" y="-360"/>
              <a:ext cx="6172200" cy="6488280"/>
            </a:xfrm>
            <a:custGeom>
              <a:avLst/>
              <a:gdLst>
                <a:gd name="textAreaLeft" fmla="*/ 301320 w 6172200"/>
                <a:gd name="textAreaRight" fmla="*/ 5870880 w 6172200"/>
                <a:gd name="textAreaTop" fmla="*/ 301320 h 6488280"/>
                <a:gd name="textAreaBottom" fmla="*/ 6186960 h 6488280"/>
              </a:gdLst>
              <a:ahLst/>
              <a:rect l="textAreaLeft" t="textAreaTop" r="textAreaRight" b="textAreaBottom"/>
              <a:pathLst>
                <a:path w="21600" h="22706">
                  <a:moveTo>
                    <a:pt x="3600" y="0"/>
                  </a:moveTo>
                  <a:arcTo wR="3600" hR="3600" stAng="16200000" swAng="-5400000"/>
                  <a:lnTo>
                    <a:pt x="0" y="19106"/>
                  </a:lnTo>
                  <a:arcTo wR="3600" hR="3600" stAng="10800000" swAng="-5400000"/>
                  <a:lnTo>
                    <a:pt x="18000" y="2270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aec5e3"/>
            </a:solidFill>
            <a:ln w="93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913840" y="194760"/>
              <a:ext cx="32004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4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School’s Strategic Plan</a:t>
              </a:r>
              <a:endParaRPr b="0" lang="en-US" sz="1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741760" y="5008320"/>
              <a:ext cx="4000320" cy="1365840"/>
            </a:xfrm>
            <a:prstGeom prst="rect">
              <a:avLst/>
            </a:prstGeom>
            <a:solidFill>
              <a:srgbClr val="d7e2c8"/>
            </a:solidFill>
            <a:ln w="93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513160" y="5459760"/>
              <a:ext cx="1028520" cy="819720"/>
            </a:xfrm>
            <a:prstGeom prst="roundRect">
              <a:avLst>
                <a:gd name="adj" fmla="val 16667"/>
              </a:avLst>
            </a:prstGeom>
            <a:solidFill>
              <a:srgbClr val="8aae46"/>
            </a:solidFill>
            <a:ln w="93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656160" y="5459760"/>
              <a:ext cx="1028520" cy="819720"/>
            </a:xfrm>
            <a:prstGeom prst="roundRect">
              <a:avLst>
                <a:gd name="adj" fmla="val 16667"/>
              </a:avLst>
            </a:prstGeom>
            <a:solidFill>
              <a:srgbClr val="49a569"/>
            </a:solidFill>
            <a:ln w="93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799160" y="5459760"/>
              <a:ext cx="1028520" cy="819720"/>
            </a:xfrm>
            <a:prstGeom prst="roundRect">
              <a:avLst>
                <a:gd name="adj" fmla="val 16667"/>
              </a:avLst>
            </a:prstGeom>
            <a:solidFill>
              <a:srgbClr val="4d7a9c"/>
            </a:solidFill>
            <a:ln w="93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42160" y="5459760"/>
              <a:ext cx="1028520" cy="819720"/>
            </a:xfrm>
            <a:prstGeom prst="roundRect">
              <a:avLst>
                <a:gd name="adj" fmla="val 16667"/>
              </a:avLst>
            </a:prstGeom>
            <a:solidFill>
              <a:srgbClr val="6d5192"/>
            </a:solidFill>
            <a:ln w="93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627280" y="5573880"/>
              <a:ext cx="799920" cy="68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0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ICT Network Audit</a:t>
              </a:r>
              <a:endParaRPr b="0" lang="en-US" sz="1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656160" y="5459760"/>
              <a:ext cx="1028520" cy="68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0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ICT Roadmap development</a:t>
              </a:r>
              <a:endParaRPr b="0" lang="en-US" sz="1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799160" y="5573880"/>
              <a:ext cx="1028520" cy="68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0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Build ICT foundation</a:t>
              </a:r>
              <a:endParaRPr b="0" lang="en-US" sz="1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942160" y="5573880"/>
              <a:ext cx="1028520" cy="68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0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Extend ICT beyond foundation</a:t>
              </a:r>
              <a:endParaRPr b="0" lang="en-US" sz="1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741760" y="4974480"/>
              <a:ext cx="4000320" cy="54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000" spc="-1" strike="noStrike">
                  <a:solidFill>
                    <a:srgbClr val="4d7a9c"/>
                  </a:solidFill>
                  <a:latin typeface="Arial"/>
                  <a:ea typeface="ＭＳ Ｐゴシック"/>
                </a:rPr>
                <a:t>IT Infrastructure and technical support</a:t>
              </a:r>
              <a:endParaRPr b="0" lang="en-US" sz="10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000" spc="-1" strike="noStrike">
                  <a:solidFill>
                    <a:srgbClr val="4d7a9c"/>
                  </a:solidFill>
                  <a:latin typeface="Arial"/>
                  <a:ea typeface="ＭＳ Ｐゴシック"/>
                </a:rPr>
                <a:t>Supporting the ‘School ICT Progression Strategy’ (SIPS)</a:t>
              </a:r>
              <a:endParaRPr b="0" lang="en-US" sz="1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941480" y="564480"/>
              <a:ext cx="2857320" cy="4323600"/>
            </a:xfrm>
            <a:custGeom>
              <a:avLst/>
              <a:gdLst>
                <a:gd name="textAreaLeft" fmla="*/ 139320 w 2857320"/>
                <a:gd name="textAreaRight" fmla="*/ 2718000 w 2857320"/>
                <a:gd name="textAreaTop" fmla="*/ 139320 h 4323600"/>
                <a:gd name="textAreaBottom" fmla="*/ 4184280 h 4323600"/>
              </a:gdLst>
              <a:ahLst/>
              <a:rect l="textAreaLeft" t="textAreaTop" r="textAreaRight" b="textAreaBottom"/>
              <a:pathLst>
                <a:path w="21600" h="32683">
                  <a:moveTo>
                    <a:pt x="3600" y="0"/>
                  </a:moveTo>
                  <a:arcTo wR="3600" hR="3600" stAng="16200000" swAng="-5400000"/>
                  <a:lnTo>
                    <a:pt x="0" y="29083"/>
                  </a:lnTo>
                  <a:arcTo wR="3600" hR="3600" stAng="10800000" swAng="-5400000"/>
                  <a:lnTo>
                    <a:pt x="18000" y="3268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d7a9c"/>
            </a:solidFill>
            <a:ln w="93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963800" y="2338560"/>
              <a:ext cx="137160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0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Annual Implementation Plan</a:t>
              </a:r>
              <a:endParaRPr b="0" lang="en-US" sz="1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269880" y="806400"/>
              <a:ext cx="2516400" cy="4007160"/>
            </a:xfrm>
            <a:custGeom>
              <a:avLst/>
              <a:gdLst>
                <a:gd name="textAreaLeft" fmla="*/ 122760 w 2516400"/>
                <a:gd name="textAreaRight" fmla="*/ 2393640 w 2516400"/>
                <a:gd name="textAreaTop" fmla="*/ 122760 h 4007160"/>
                <a:gd name="textAreaBottom" fmla="*/ 3884400 h 4007160"/>
              </a:gdLst>
              <a:ahLst/>
              <a:rect l="textAreaLeft" t="textAreaTop" r="textAreaRight" b="textAreaBottom"/>
              <a:pathLst>
                <a:path w="21600" h="34394">
                  <a:moveTo>
                    <a:pt x="3600" y="0"/>
                  </a:moveTo>
                  <a:arcTo wR="3600" hR="3600" stAng="16200000" swAng="-5400000"/>
                  <a:lnTo>
                    <a:pt x="0" y="30794"/>
                  </a:lnTo>
                  <a:arcTo wR="3600" hR="3600" stAng="10800000" swAng="-5400000"/>
                  <a:lnTo>
                    <a:pt x="18000" y="3439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626280" y="1451520"/>
              <a:ext cx="1714320" cy="647640"/>
            </a:xfrm>
            <a:prstGeom prst="rect">
              <a:avLst/>
            </a:prstGeom>
            <a:solidFill>
              <a:srgbClr val="669999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26280" y="2096640"/>
              <a:ext cx="1714320" cy="647640"/>
            </a:xfrm>
            <a:prstGeom prst="rect">
              <a:avLst/>
            </a:prstGeom>
            <a:solidFill>
              <a:srgbClr val="669999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626280" y="2741760"/>
              <a:ext cx="1714320" cy="647640"/>
            </a:xfrm>
            <a:prstGeom prst="rect">
              <a:avLst/>
            </a:prstGeom>
            <a:solidFill>
              <a:srgbClr val="669999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626280" y="4011840"/>
              <a:ext cx="1714320" cy="647640"/>
            </a:xfrm>
            <a:prstGeom prst="rect">
              <a:avLst/>
            </a:prstGeom>
            <a:solidFill>
              <a:srgbClr val="669999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626280" y="3384360"/>
              <a:ext cx="1714320" cy="647640"/>
            </a:xfrm>
            <a:prstGeom prst="rect">
              <a:avLst/>
            </a:prstGeom>
            <a:solidFill>
              <a:srgbClr val="669999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744720" y="1532160"/>
              <a:ext cx="1485720" cy="53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0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eLearning Leadership</a:t>
              </a:r>
              <a:endParaRPr b="0" lang="en-US" sz="1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744720" y="2177280"/>
              <a:ext cx="1485720" cy="53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0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Learning, Teaching, Assessment, Reporting</a:t>
              </a:r>
              <a:endParaRPr b="0" lang="en-US" sz="1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744720" y="2822400"/>
              <a:ext cx="1485720" cy="53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0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ICT Professional Learning</a:t>
              </a:r>
              <a:endParaRPr b="0" lang="en-US" sz="1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744720" y="3467520"/>
              <a:ext cx="1485720" cy="53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0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Learning Places and Spaces</a:t>
              </a:r>
              <a:endParaRPr b="0" lang="en-US" sz="1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770280" y="4119840"/>
              <a:ext cx="1485720" cy="53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0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Learning Communities</a:t>
              </a:r>
              <a:endParaRPr b="0" lang="en-US" sz="1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69880" y="1370880"/>
              <a:ext cx="459000" cy="301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-54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900" spc="-1" strike="noStrike">
                  <a:solidFill>
                    <a:srgbClr val="008080"/>
                  </a:solidFill>
                  <a:latin typeface="Arial"/>
                  <a:ea typeface="ＭＳ Ｐゴシック"/>
                </a:rPr>
                <a:t>E</a:t>
              </a:r>
              <a:endParaRPr b="0" lang="en-US" sz="9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900" spc="-1" strike="noStrike">
                  <a:solidFill>
                    <a:srgbClr val="008080"/>
                  </a:solidFill>
                  <a:latin typeface="Arial"/>
                  <a:ea typeface="ＭＳ Ｐゴシック"/>
                </a:rPr>
                <a:t>L</a:t>
              </a:r>
              <a:endParaRPr b="0" lang="en-US" sz="9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900" spc="-1" strike="noStrike">
                  <a:solidFill>
                    <a:srgbClr val="008080"/>
                  </a:solidFill>
                  <a:latin typeface="Arial"/>
                  <a:ea typeface="ＭＳ Ｐゴシック"/>
                </a:rPr>
                <a:t>E</a:t>
              </a:r>
              <a:endParaRPr b="0" lang="en-US" sz="9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900" spc="-1" strike="noStrike">
                  <a:solidFill>
                    <a:srgbClr val="008080"/>
                  </a:solidFill>
                  <a:latin typeface="Arial"/>
                  <a:ea typeface="ＭＳ Ｐゴシック"/>
                </a:rPr>
                <a:t>A</a:t>
              </a:r>
              <a:endParaRPr b="0" lang="en-US" sz="9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900" spc="-1" strike="noStrike">
                  <a:solidFill>
                    <a:srgbClr val="008080"/>
                  </a:solidFill>
                  <a:latin typeface="Arial"/>
                  <a:ea typeface="ＭＳ Ｐゴシック"/>
                </a:rPr>
                <a:t>R</a:t>
              </a:r>
              <a:endParaRPr b="0" lang="en-US" sz="9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900" spc="-1" strike="noStrike">
                  <a:solidFill>
                    <a:srgbClr val="008080"/>
                  </a:solidFill>
                  <a:latin typeface="Arial"/>
                  <a:ea typeface="ＭＳ Ｐゴシック"/>
                </a:rPr>
                <a:t>N</a:t>
              </a:r>
              <a:endParaRPr b="0" lang="en-US" sz="9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900" spc="-1" strike="noStrike">
                  <a:solidFill>
                    <a:srgbClr val="008080"/>
                  </a:solidFill>
                  <a:latin typeface="Arial"/>
                  <a:ea typeface="ＭＳ Ｐゴシック"/>
                </a:rPr>
                <a:t>I</a:t>
              </a:r>
              <a:endParaRPr b="0" lang="en-US" sz="9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900" spc="-1" strike="noStrike">
                  <a:solidFill>
                    <a:srgbClr val="008080"/>
                  </a:solidFill>
                  <a:latin typeface="Arial"/>
                  <a:ea typeface="ＭＳ Ｐゴシック"/>
                </a:rPr>
                <a:t>N</a:t>
              </a:r>
              <a:endParaRPr b="0" lang="en-US" sz="9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900" spc="-1" strike="noStrike">
                  <a:solidFill>
                    <a:srgbClr val="008080"/>
                  </a:solidFill>
                  <a:latin typeface="Arial"/>
                  <a:ea typeface="ＭＳ Ｐゴシック"/>
                </a:rPr>
                <a:t>G</a:t>
              </a:r>
              <a:endParaRPr b="0" lang="en-US" sz="9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900" spc="-1" strike="noStrike">
                  <a:solidFill>
                    <a:srgbClr val="008080"/>
                  </a:solidFill>
                  <a:latin typeface="Arial"/>
                  <a:ea typeface="ＭＳ Ｐゴシック"/>
                </a:rPr>
                <a:t>P</a:t>
              </a:r>
              <a:br>
                <a:rPr sz="900"/>
              </a:br>
              <a:r>
                <a:rPr b="0" lang="en-AU" sz="900" spc="-1" strike="noStrike">
                  <a:solidFill>
                    <a:srgbClr val="008080"/>
                  </a:solidFill>
                  <a:latin typeface="Arial"/>
                  <a:ea typeface="ＭＳ Ｐゴシック"/>
                </a:rPr>
                <a:t>L</a:t>
              </a:r>
              <a:endParaRPr b="0" lang="en-US" sz="9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900" spc="-1" strike="noStrike">
                  <a:solidFill>
                    <a:srgbClr val="008080"/>
                  </a:solidFill>
                  <a:latin typeface="Arial"/>
                  <a:ea typeface="ＭＳ Ｐゴシック"/>
                </a:rPr>
                <a:t>A</a:t>
              </a:r>
              <a:endParaRPr b="0" lang="en-US" sz="9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900" spc="-1" strike="noStrike">
                  <a:solidFill>
                    <a:srgbClr val="008080"/>
                  </a:solidFill>
                  <a:latin typeface="Arial"/>
                  <a:ea typeface="ＭＳ Ｐゴシック"/>
                </a:rPr>
                <a:t>N</a:t>
              </a:r>
              <a:endParaRPr b="0" lang="en-US" sz="9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900" spc="-1" strike="noStrike">
                  <a:solidFill>
                    <a:srgbClr val="008080"/>
                  </a:solidFill>
                  <a:latin typeface="Arial"/>
                  <a:ea typeface="ＭＳ Ｐゴシック"/>
                </a:rPr>
                <a:t>N</a:t>
              </a:r>
              <a:endParaRPr b="0" lang="en-US" sz="9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900" spc="-1" strike="noStrike">
                  <a:solidFill>
                    <a:srgbClr val="008080"/>
                  </a:solidFill>
                  <a:latin typeface="Arial"/>
                  <a:ea typeface="ＭＳ Ｐゴシック"/>
                </a:rPr>
                <a:t>I</a:t>
              </a:r>
              <a:endParaRPr b="0" lang="en-US" sz="9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900" spc="-1" strike="noStrike">
                  <a:solidFill>
                    <a:srgbClr val="008080"/>
                  </a:solidFill>
                  <a:latin typeface="Arial"/>
                  <a:ea typeface="ＭＳ Ｐゴシック"/>
                </a:rPr>
                <a:t>N</a:t>
              </a:r>
              <a:endParaRPr b="0" lang="en-US" sz="9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900" spc="-1" strike="noStrike">
                  <a:solidFill>
                    <a:srgbClr val="008080"/>
                  </a:solidFill>
                  <a:latin typeface="Arial"/>
                  <a:ea typeface="ＭＳ Ｐゴシック"/>
                </a:rPr>
                <a:t>G</a:t>
              </a:r>
              <a:endParaRPr b="0" lang="en-US" sz="9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900" spc="-1" strike="noStrike">
                  <a:solidFill>
                    <a:srgbClr val="008080"/>
                  </a:solidFill>
                  <a:latin typeface="Arial"/>
                  <a:ea typeface="ＭＳ Ｐゴシック"/>
                </a:rPr>
                <a:t>E</a:t>
              </a:r>
              <a:endParaRPr b="0" lang="en-US" sz="9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900" spc="-1" strike="noStrike">
                  <a:solidFill>
                    <a:srgbClr val="008080"/>
                  </a:solidFill>
                  <a:latin typeface="Arial"/>
                  <a:ea typeface="ＭＳ Ｐゴシック"/>
                </a:rPr>
                <a:t>L</a:t>
              </a:r>
              <a:endParaRPr b="0" lang="en-US" sz="9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900" spc="-1" strike="noStrike">
                  <a:solidFill>
                    <a:srgbClr val="008080"/>
                  </a:solidFill>
                  <a:latin typeface="Arial"/>
                  <a:ea typeface="ＭＳ Ｐゴシック"/>
                </a:rPr>
                <a:t>E</a:t>
              </a:r>
              <a:endParaRPr b="0" lang="en-US" sz="9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900" spc="-1" strike="noStrike">
                  <a:solidFill>
                    <a:srgbClr val="008080"/>
                  </a:solidFill>
                  <a:latin typeface="Arial"/>
                  <a:ea typeface="ＭＳ Ｐゴシック"/>
                </a:rPr>
                <a:t>M</a:t>
              </a:r>
              <a:endParaRPr b="0" lang="en-US" sz="9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900" spc="-1" strike="noStrike">
                  <a:solidFill>
                    <a:srgbClr val="008080"/>
                  </a:solidFill>
                  <a:latin typeface="Arial"/>
                  <a:ea typeface="ＭＳ Ｐゴシック"/>
                </a:rPr>
                <a:t>E</a:t>
              </a:r>
              <a:endParaRPr b="0" lang="en-US" sz="9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900" spc="-1" strike="noStrike">
                  <a:solidFill>
                    <a:srgbClr val="008080"/>
                  </a:solidFill>
                  <a:latin typeface="Arial"/>
                  <a:ea typeface="ＭＳ Ｐゴシック"/>
                </a:rPr>
                <a:t>N</a:t>
              </a:r>
              <a:endParaRPr b="0" lang="en-US" sz="9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900" spc="-1" strike="noStrike">
                  <a:solidFill>
                    <a:srgbClr val="008080"/>
                  </a:solidFill>
                  <a:latin typeface="Arial"/>
                  <a:ea typeface="ＭＳ Ｐゴシック"/>
                </a:rPr>
                <a:t>T</a:t>
              </a:r>
              <a:endParaRPr b="0" lang="en-US" sz="9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900" spc="-1" strike="noStrike">
                  <a:solidFill>
                    <a:srgbClr val="008080"/>
                  </a:solidFill>
                  <a:latin typeface="Arial"/>
                  <a:ea typeface="ＭＳ Ｐゴシック"/>
                </a:rPr>
                <a:t>s</a:t>
              </a:r>
              <a:r>
                <a:rPr b="1" lang="en-AU" sz="1000" spc="-1" strike="noStrike">
                  <a:solidFill>
                    <a:srgbClr val="008080"/>
                  </a:solidFill>
                  <a:latin typeface="Arial"/>
                  <a:ea typeface="ＭＳ Ｐゴシック"/>
                </a:rPr>
                <a:t> </a:t>
              </a:r>
              <a:endParaRPr b="0" lang="en-US" sz="10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882400" y="2499840"/>
              <a:ext cx="1599840" cy="799920"/>
            </a:xfrm>
            <a:prstGeom prst="leftArrowCallout">
              <a:avLst>
                <a:gd name="adj1" fmla="val 37624"/>
                <a:gd name="adj2" fmla="val 39287"/>
                <a:gd name="adj3" fmla="val 61111"/>
                <a:gd name="adj4" fmla="val 65483"/>
              </a:avLst>
            </a:prstGeom>
            <a:solidFill>
              <a:srgbClr val="ffffff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56960" y="2661120"/>
              <a:ext cx="1028520" cy="609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88760" y="1048320"/>
              <a:ext cx="356040" cy="362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-54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200" spc="-1" strike="noStrike">
                  <a:solidFill>
                    <a:srgbClr val="008080"/>
                  </a:solidFill>
                  <a:latin typeface="Arial"/>
                  <a:ea typeface="ＭＳ Ｐゴシック"/>
                </a:rPr>
                <a:t>Re</a:t>
              </a:r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200" spc="-1" strike="noStrike">
                  <a:solidFill>
                    <a:srgbClr val="008080"/>
                  </a:solidFill>
                  <a:latin typeface="Arial"/>
                  <a:ea typeface="ＭＳ Ｐゴシック"/>
                </a:rPr>
                <a:t>V</a:t>
              </a:r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200" spc="-1" strike="noStrike">
                  <a:solidFill>
                    <a:srgbClr val="008080"/>
                  </a:solidFill>
                  <a:latin typeface="Arial"/>
                  <a:ea typeface="ＭＳ Ｐゴシック"/>
                </a:rPr>
                <a:t>I</a:t>
              </a:r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200" spc="-1" strike="noStrike">
                  <a:solidFill>
                    <a:srgbClr val="008080"/>
                  </a:solidFill>
                  <a:latin typeface="Arial"/>
                  <a:ea typeface="ＭＳ Ｐゴシック"/>
                </a:rPr>
                <a:t>ew and Managemen</a:t>
              </a:r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200" spc="-1" strike="noStrike">
                  <a:solidFill>
                    <a:srgbClr val="008080"/>
                  </a:solidFill>
                  <a:latin typeface="Arial"/>
                  <a:ea typeface="ＭＳ Ｐゴシック"/>
                </a:rPr>
                <a:t>t</a:t>
              </a:r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16560" y="996120"/>
              <a:ext cx="1714320" cy="419040"/>
            </a:xfrm>
            <a:prstGeom prst="rect">
              <a:avLst/>
            </a:prstGeom>
            <a:noFill/>
            <a:ln w="381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626280" y="1048320"/>
              <a:ext cx="171432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000" spc="-1" strike="noStrike">
                  <a:solidFill>
                    <a:srgbClr val="669999"/>
                  </a:solidFill>
                  <a:latin typeface="Arial"/>
                  <a:ea typeface="ＭＳ Ｐゴシック"/>
                </a:rPr>
                <a:t>eLearning Vision</a:t>
              </a:r>
              <a:endParaRPr b="0" lang="en-US" sz="1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407560" y="4032000"/>
              <a:ext cx="374400" cy="457200"/>
            </a:xfrm>
            <a:custGeom>
              <a:avLst/>
              <a:gdLst>
                <a:gd name="textAreaLeft" fmla="*/ 65520 w 374400"/>
                <a:gd name="textAreaRight" fmla="*/ 271440 w 374400"/>
                <a:gd name="textAreaTop" fmla="*/ 61200 h 457200"/>
                <a:gd name="textAreaBottom" fmla="*/ 39600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759236"/>
                  <a:lnTo>
                    <a:pt x="21202" y="6919"/>
                  </a:lnTo>
                  <a:lnTo>
                    <a:pt x="17280" y="0"/>
                  </a:lnTo>
                  <a:lnTo>
                    <a:pt x="12562" y="6919"/>
                  </a:lnTo>
                  <a:lnTo>
                    <a:pt x="14722" y="6919"/>
                  </a:lnTo>
                  <a:arcTo wR="7560" hR="21600" stAng="2640764" swAng="2401801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6d519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578000">
              <a:off x="5360400" y="1209240"/>
              <a:ext cx="374400" cy="457200"/>
            </a:xfrm>
            <a:custGeom>
              <a:avLst/>
              <a:gdLst>
                <a:gd name="textAreaLeft" fmla="*/ 65520 w 374400"/>
                <a:gd name="textAreaRight" fmla="*/ 271440 w 374400"/>
                <a:gd name="textAreaTop" fmla="*/ 61200 h 457200"/>
                <a:gd name="textAreaBottom" fmla="*/ 39600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759236"/>
                  <a:lnTo>
                    <a:pt x="21202" y="6919"/>
                  </a:lnTo>
                  <a:lnTo>
                    <a:pt x="17280" y="0"/>
                  </a:lnTo>
                  <a:lnTo>
                    <a:pt x="12562" y="6919"/>
                  </a:lnTo>
                  <a:lnTo>
                    <a:pt x="14722" y="6919"/>
                  </a:lnTo>
                  <a:arcTo wR="7560" hR="21600" stAng="2640764" swAng="2401801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6d519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6437160" y="2625840"/>
            <a:ext cx="927360" cy="59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430440" cy="2162160"/>
          </a:xfrm>
          <a:prstGeom prst="rect">
            <a:avLst/>
          </a:prstGeom>
          <a:ln w="0">
            <a:noFill/>
          </a:ln>
        </p:spPr>
      </p:pic>
      <p:pic>
        <p:nvPicPr>
          <p:cNvPr id="121" name="Rectangle 2" descr=""/>
          <p:cNvPicPr/>
          <p:nvPr/>
        </p:nvPicPr>
        <p:blipFill>
          <a:blip r:embed="rId2"/>
          <a:stretch/>
        </p:blipFill>
        <p:spPr>
          <a:xfrm>
            <a:off x="0" y="3575160"/>
            <a:ext cx="3632040" cy="24717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3544920" y="249120"/>
            <a:ext cx="5599080" cy="553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FBEB0-F807-4023-B376-CEAE45551C1A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39760" y="196560"/>
            <a:ext cx="890424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Module 1 | Activity 2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Learning Through Ranking</a:t>
            </a:r>
            <a:br>
              <a:rPr sz="2200"/>
            </a:b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462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Essential Conditions to Effectively Leverage ICT for Learning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Review the Essentials Worksheet and indicate your 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school’s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level of progress and note specifics as it relates to your rating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hare and discuss how you rated your schools progress in each of these areas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ome Questions to consid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What “essential conditions” do you view as the most critical to address for your school to best leverage ICT to support teaching and learning in your school?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What “essential conditions” do you think you are doing “best”?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What “essential conditions” do you think you need to address “first”?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How would use or modify these essential conditions to support your work as a leader to leverage ICT for learning?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495E7-4E3E-48B1-ACB6-EC815AFF314E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9760" y="196560"/>
            <a:ext cx="890424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Module 1 | Activity 2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Learning Through Ranking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Rank Order the Essential Conditions based on your discussions on the previous slide.</a:t>
            </a:r>
            <a:br>
              <a:rPr sz="2200"/>
            </a:b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2309400"/>
            <a:ext cx="8237520" cy="34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462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6cae1"/>
                </a:solidFill>
                <a:latin typeface="Verdana"/>
              </a:rPr>
              <a:t>Logging In to Visual Ranking Too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Go to: www.intel.com/education/au/visualranking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eacher ID: </a:t>
            </a:r>
            <a:r>
              <a:rPr b="1" lang="en-US" sz="2000" spc="-1" strike="noStrike">
                <a:solidFill>
                  <a:srgbClr val="a6cae1"/>
                </a:solidFill>
                <a:latin typeface="Verdana"/>
              </a:rPr>
              <a:t>Senior Trainer inserts Teacher ID here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eam ID: </a:t>
            </a:r>
            <a:r>
              <a:rPr b="1" lang="en-US" sz="2000" spc="-1" strike="noStrike">
                <a:solidFill>
                  <a:srgbClr val="a6cae1"/>
                </a:solidFill>
                <a:latin typeface="Verdana"/>
              </a:rPr>
              <a:t>Userxx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(xx is your assigned number 1 through 20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Password: </a:t>
            </a:r>
            <a:r>
              <a:rPr b="1" lang="en-US" sz="2000" spc="-1" strike="noStrike">
                <a:solidFill>
                  <a:srgbClr val="a6cae1"/>
                </a:solidFill>
                <a:latin typeface="Verdana"/>
              </a:rPr>
              <a:t>Userxx</a:t>
            </a: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(same as Team ID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Please record these for future reference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7D67D-93A8-4C9C-BD56-FE6848B13A8D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19040" y="1522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Module 1 | Activity 3 </a:t>
            </a:r>
            <a:br>
              <a:rPr sz="2800"/>
            </a:b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Effectively Leveraging ICT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53880" y="101556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How can you shift priorities and time to support integration of ICT into learning and teaching?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What evidence will you accept that integration is occurring – keeping in mind that USE and INTEGRATION are separate?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What helps a leader move to higher levels of comfort and knowledge relative to ICT integration?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32" name="Picture 5" descr="Leveraging.jpg"/>
          <p:cNvPicPr/>
          <p:nvPr/>
        </p:nvPicPr>
        <p:blipFill>
          <a:blip r:embed="rId1"/>
          <a:stretch/>
        </p:blipFill>
        <p:spPr>
          <a:xfrm>
            <a:off x="469800" y="2916360"/>
            <a:ext cx="6858000" cy="349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708F9-008A-4903-A9FA-4BF10A416E49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Module 1 Summary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Key Points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ffffff"/>
              </a:buClr>
              <a:buSzPct val="12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Leadership Behaviours exist that impact student achievement when ICT is integrated into teaching and learning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ffffff"/>
              </a:buClr>
              <a:buSzPct val="12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Planning should be based on local and state standard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ffffff"/>
              </a:buClr>
              <a:buSzPct val="12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Identifying core knowledge and skills for leaders is critica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ffffff"/>
              </a:buClr>
              <a:buSzPct val="12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Leaders play a pivotal role in supporting IC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ffffff"/>
              </a:buClr>
              <a:buSzPct val="12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Essential Conditions assist leaders in effectively leveraging IC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39B23-5E85-49BF-880F-225300E48476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Module 2</a:t>
            </a:r>
            <a:br>
              <a:rPr sz="2600"/>
            </a:br>
            <a:r>
              <a:rPr b="1" lang="en-US" sz="2600" spc="-1" strike="noStrike">
                <a:solidFill>
                  <a:srgbClr val="a6cae1"/>
                </a:solidFill>
                <a:latin typeface="Verdana"/>
              </a:rPr>
              <a:t>Exploring Best Practices and Resources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Module Questions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How are teachers using ICT effectively to engage students, develop 21st century skills, and enhance standards-based teaching and learning?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What do exemplary ICT-integrated unit plans and assessment tools look like?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How is ICT most effectively used as a tool to enhance teacher effectiveness and attain standards?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What actions do leaders take in supporting, modeling, and promoting ICT integration?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09380-D81D-4AA3-AC4E-A8B6E4BE2B11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80960" y="272520"/>
            <a:ext cx="8212320" cy="104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Module 2 | Activity 1 </a:t>
            </a:r>
            <a:br>
              <a:rPr sz="2600"/>
            </a:b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Exploring Best Practices and Resources</a:t>
            </a:r>
            <a:br>
              <a:rPr sz="2000"/>
            </a:b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66840" y="1485720"/>
            <a:ext cx="823752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462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Understanding the Intel</a:t>
            </a:r>
            <a:r>
              <a:rPr b="1" lang="en-US" sz="2000" spc="-1" strike="noStrike" baseline="30000">
                <a:solidFill>
                  <a:srgbClr val="ffffff"/>
                </a:solidFill>
                <a:latin typeface="Verdana"/>
              </a:rPr>
              <a:t>®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Teach Program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 worldwide program launched in 2000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More than 6 million teachers in over 40 countries have already been trained, including 17,000 in Australia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urriculum goes beyond learning how to use ICT tools to improve teacher effectiveness in support of student achievemen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44BA4-8E2D-4FBB-B6C2-9F88B344677A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29840" y="425160"/>
            <a:ext cx="826308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Module 2 | Activity 2 </a:t>
            </a:r>
            <a:br>
              <a:rPr sz="2600"/>
            </a:b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Exploring Best Practices and Resources</a:t>
            </a:r>
            <a:br>
              <a:rPr sz="2000"/>
            </a:b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58920" y="1432080"/>
            <a:ext cx="8237520" cy="41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Key Evaluation Findings for Intel</a:t>
            </a:r>
            <a:r>
              <a:rPr b="1" lang="en-US" sz="1600" spc="-1" strike="noStrike" baseline="30000">
                <a:solidFill>
                  <a:srgbClr val="ffffff"/>
                </a:solidFill>
                <a:latin typeface="Verdana"/>
              </a:rPr>
              <a:t>®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 Teach Program**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75%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received leadership support to implement their learnings.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lnSpc>
                <a:spcPct val="80000"/>
              </a:lnSpc>
              <a:spcBef>
                <a:spcPts val="524"/>
              </a:spcBef>
              <a:spcAft>
                <a:spcPts val="700"/>
              </a:spcAft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notably stronger in primary (</a:t>
            </a: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78%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) than in secondary schools (</a:t>
            </a: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65%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Data showed a strong correlation between level of leadership support and the implementation of teachers’ technology based unit plans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Teacher comments referred to the need for leaders to: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lnSpc>
                <a:spcPct val="90000"/>
              </a:lnSpc>
              <a:spcBef>
                <a:spcPts val="524"/>
              </a:spcBef>
              <a:spcAft>
                <a:spcPts val="524"/>
              </a:spcAft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Encourage and enable participation by all or most teachers in the school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lnSpc>
                <a:spcPct val="90000"/>
              </a:lnSpc>
              <a:spcBef>
                <a:spcPts val="524"/>
              </a:spcBef>
              <a:spcAft>
                <a:spcPts val="524"/>
              </a:spcAft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Allow </a:t>
            </a: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time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 for the professional learning, and for ongoing collaboration, support and joint curriculum planning between teachers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0">
              <a:lnSpc>
                <a:spcPct val="9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Verdana"/>
              </a:rPr>
              <a:t>** Evaluation conducted by Deakin University</a:t>
            </a:r>
            <a:endParaRPr b="0" lang="en-US" sz="6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0">
              <a:lnSpc>
                <a:spcPct val="9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525F6-3C84-4D90-8B77-85527D4688AF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Module 2 | Activity 2</a:t>
            </a:r>
            <a:br>
              <a:rPr sz="2600"/>
            </a:br>
            <a:r>
              <a:rPr b="1" lang="en-US" sz="2600" spc="-1" strike="noStrike">
                <a:solidFill>
                  <a:srgbClr val="a6cae1"/>
                </a:solidFill>
                <a:latin typeface="Verdana"/>
              </a:rPr>
              <a:t>Exploring Resources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Leaders will explore the Intel Education website: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ustralia – www.intel.com/education/au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Step 1: Website Tour – Teaching Tools and Resources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Step 2: Designing Effective Projects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Step 3: Thinking Tools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Step 4: Assessing Projects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buClr>
                <a:srgbClr val="ffffff"/>
              </a:buClr>
              <a:buSzPct val="12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eaching Resourc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Step 5: Exploring An Innovation Odyssey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Step 6: Evidence of Impact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Proven Results in </a:t>
            </a: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Australia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lnSpc>
                <a:spcPct val="90000"/>
              </a:lnSpc>
              <a:spcBef>
                <a:spcPts val="400"/>
              </a:spcBef>
              <a:buClr>
                <a:srgbClr val="f5e647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Australian Teachers making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a difference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Solutions for Leaders (Global)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Evidence of Global Impact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179A0-DE2F-4031-81F6-59FD2ADD91BF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Forum Goals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23720" y="96156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Through this forum you will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Examine the critical role educational leaders play in promoting, modeling, and supporting effective integration of ICT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Identify, access, and use available resources and ICT tools to support professional learning, educator practice, and student learning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Create a prioritised list of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Essential Conditions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that promote the integration of ICT as a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tool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to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improve student learning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Discuss  and review relevant local ICT standards for leaders, teachers, and students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Review International Society for Technology in Educational International Technology/ICT Standards for Leaders, Teachers, and Students 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Synthesise understanding and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begin to develop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a personal action plan to implement in your school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45304-888C-4FCD-A5B3-691039523AD2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Module 2 Summary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Key Point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ffffff"/>
              </a:buClr>
              <a:buSzPct val="12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tudent centered, inquiry based instruction engages students in meaningful project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ffffff"/>
              </a:buClr>
              <a:buSzPct val="12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21st Century Skills play an integral part in student project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ffffff"/>
              </a:buClr>
              <a:buSzPct val="12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Leaders support and promote ICT integration through daily modeling, problem solving, and team approaches to teaching and learning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3" marL="878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3" marL="878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878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3" marL="878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2023C-8763-477C-933F-FDA7AE96193A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91680" y="272880"/>
            <a:ext cx="8301240" cy="95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Module 3</a:t>
            </a:r>
            <a:br>
              <a:rPr sz="2200"/>
            </a:br>
            <a:r>
              <a:rPr b="1" lang="en-US" sz="2600" spc="-1" strike="noStrike">
                <a:solidFill>
                  <a:srgbClr val="a6cae1"/>
                </a:solidFill>
                <a:latin typeface="Verdana"/>
              </a:rPr>
              <a:t>Introducing Web 2.0 and New Technologies</a:t>
            </a:r>
            <a:br>
              <a:rPr sz="2200"/>
            </a:b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8040" y="1498680"/>
            <a:ext cx="7564320" cy="41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Module Questions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How can Web 2.0 technologies be integrated into my school’s ICT plan?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What tools can teachers and students use to connect to the global community and enhance teaching and learning?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How can Web 2.0 tools enhance daily communication with staff, parents, students, and community members?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6C4EC-75F1-4384-AAB7-49F79662D9B6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Module 3 | Activity 1</a:t>
            </a:r>
            <a:br>
              <a:rPr sz="2600"/>
            </a:br>
            <a:r>
              <a:rPr b="1" lang="en-US" sz="2600" spc="-1" strike="noStrike">
                <a:solidFill>
                  <a:srgbClr val="a6cae1"/>
                </a:solidFill>
                <a:latin typeface="Verdana"/>
              </a:rPr>
              <a:t>Understanding and Comparing Web 2.0 </a:t>
            </a:r>
            <a:br>
              <a:rPr sz="2600"/>
            </a:b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93560" y="1727280"/>
            <a:ext cx="7691760" cy="326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Web 2.0 presents a shift from the “read-only” version of the web to a “read-write” version.  Web 2.0 means users can participate, manipulate, and contribute to Web content, often without using specialised software beyond their browsers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Wikipedia offers a detailed definition of Web 2.0 at http://en.wikipedia.org/wiki/Web_2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909720" y="0"/>
            <a:ext cx="7267320" cy="604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13760" cy="685800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2133720" y="1523880"/>
            <a:ext cx="5105160" cy="2971800"/>
          </a:xfrm>
          <a:prstGeom prst="wedgeRoundRectCallout">
            <a:avLst>
              <a:gd name="adj1" fmla="val -45273"/>
              <a:gd name="adj2" fmla="val 71847"/>
              <a:gd name="adj3" fmla="val 16667"/>
            </a:avLst>
          </a:prstGeom>
          <a:solidFill>
            <a:srgbClr val="567e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3399"/>
                </a:solidFill>
                <a:latin typeface="Trebuchet MS"/>
              </a:rPr>
              <a:t>Web 2.0:</a:t>
            </a:r>
            <a:endParaRPr b="0" lang="en-US" sz="7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99"/>
                </a:solidFill>
                <a:latin typeface="Trebuchet MS"/>
              </a:rPr>
              <a:t>Imagine the Possibilities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6019920" y="5943600"/>
            <a:ext cx="2971800" cy="707760"/>
          </a:xfrm>
          <a:prstGeom prst="rect">
            <a:avLst/>
          </a:prstGeom>
          <a:solidFill>
            <a:srgbClr val="0c2e86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rebuchet MS"/>
              </a:rPr>
              <a:t>Presented by Gayla S. Keesee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rebuchet MS"/>
              </a:rPr>
              <a:t>May, 2007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 advTm="21000">
    <p:plus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2FD24-F16C-4ACC-B097-751CB2359864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109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Module 3 | Activity 1 </a:t>
            </a:r>
            <a:br>
              <a:rPr sz="2600"/>
            </a:br>
            <a:r>
              <a:rPr b="1" lang="en-US" sz="2600" spc="-1" strike="noStrike">
                <a:solidFill>
                  <a:srgbClr val="a6cae1"/>
                </a:solidFill>
                <a:latin typeface="Verdana"/>
              </a:rPr>
              <a:t>Step 1: Exploring Web 2.0 Tools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5760" y="1650600"/>
            <a:ext cx="823752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In this next activity you will explore blogs, wikis, and collaborative web sites. 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Blogs:  Allow individuals to share information and opinions with readers and to solicit feedback and discussion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Wikis:  Collaborative Web sites that can be set up to be edited by anyone or only designated users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ollaborative websites:  Allow individuals to create or upload documents to the Web where they can be edited by anyone you invite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Module 3 | Activity 1 </a:t>
            </a:r>
            <a:br>
              <a:rPr sz="2600"/>
            </a:br>
            <a:r>
              <a:rPr b="1" lang="en-US" sz="2600" spc="-1" strike="noStrike">
                <a:solidFill>
                  <a:srgbClr val="a6cae1"/>
                </a:solidFill>
                <a:latin typeface="Verdana"/>
              </a:rPr>
              <a:t>Step 2: Comparing Web 2.0 Tools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18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What Web 2.0 applications do you currently use?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8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What Web 2.0 applications are currently used by teachers in your schools?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8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What applications are currently supported? 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What are not allowed?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8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ake the next few minutes and explore some of the applications listed on the handout provided.  (Web 2.0_Sites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E6E81-C012-449D-831A-8634BFEFEF37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Module 3 | Activity 2 </a:t>
            </a:r>
            <a:br>
              <a:rPr sz="2600"/>
            </a:br>
            <a:r>
              <a:rPr b="1" lang="en-US" sz="2600" spc="-1" strike="noStrike">
                <a:solidFill>
                  <a:srgbClr val="a6cae1"/>
                </a:solidFill>
                <a:latin typeface="Verdana"/>
              </a:rPr>
              <a:t> Web 2.0 Tools in Schools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18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What Web 2.0 tools are being used by your teachers?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8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What Web 2.0 tools do you use?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8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How could these Web 2.0 tools support teaching and learning in your school?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Blog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Wiki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ollaborative site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8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What are the issues that leaders need  to consider when  tools like this are used?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8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345B3-AE8C-480F-A6A9-2F0DE746F469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8A332-6339-456F-87A4-662BEC618D1E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Module 3 Summary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5760" y="1244160"/>
            <a:ext cx="8447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Key Points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28600" indent="-228600">
              <a:spcBef>
                <a:spcPts val="134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Blogs, wikis, and online collaborative documents allow students and teachers to collaborate on projects by sharing and responding to each other’s work onlin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28600" indent="-228600">
              <a:spcBef>
                <a:spcPts val="134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Web 2.0 tools allow students, educators, and community members to participate and contribute online without the need of specialised software or coding skill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28600" indent="-228600">
              <a:spcBef>
                <a:spcPts val="134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dministrators use simple content publication tools, like blogs, to disseminate information online to teachers, students, and other community member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28600" indent="-228600">
              <a:spcBef>
                <a:spcPts val="134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Web 2.0 tools are often easy to use, and they extend the reach of communicatio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2860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2860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2860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47647-D70D-46D6-8190-6EF2549913B2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Module 4 </a:t>
            </a:r>
            <a:br>
              <a:rPr sz="2600"/>
            </a:br>
            <a:r>
              <a:rPr b="1" lang="en-US" sz="2600" spc="-1" strike="noStrike">
                <a:solidFill>
                  <a:srgbClr val="a6cae1"/>
                </a:solidFill>
                <a:latin typeface="Verdana"/>
              </a:rPr>
              <a:t>Developing Your Action Plan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Module Questions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What can I personally do to advance effective ICT integration at my school?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What leadership behaviours can I exhibit in the short-, medium-, and long-term time frames?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CE02E-AEF1-433F-BDBD-80E03D27E817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Viewing the Action Plan Template</a:t>
            </a:r>
            <a:br>
              <a:rPr sz="2600"/>
            </a:b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Action Plan - </a:t>
            </a:r>
            <a:r>
              <a:rPr b="0" i="1" lang="en-US" sz="2000" spc="-1" strike="noStrike">
                <a:solidFill>
                  <a:srgbClr val="ffffff"/>
                </a:solidFill>
                <a:latin typeface="Verdana"/>
              </a:rPr>
              <a:t>What can I PERSONALLY do…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228600" y="1015920"/>
          <a:ext cx="8667720" cy="5138640"/>
        </p:xfrm>
        <a:graphic>
          <a:graphicData uri="http://schemas.openxmlformats.org/drawingml/2006/table">
            <a:tbl>
              <a:tblPr/>
              <a:tblGrid>
                <a:gridCol w="2940120"/>
                <a:gridCol w="2011320"/>
                <a:gridCol w="1811160"/>
                <a:gridCol w="1905120"/>
              </a:tblGrid>
              <a:tr h="309600">
                <a:tc>
                  <a:txBody>
                    <a:bodyPr lIns="92160" rIns="92160" tIns="46080" bIns="46080" anchor="ctr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</a:rPr>
                        <a:t>Leadership Action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cae1"/>
                    </a:solidFill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</a:rPr>
                        <a:t>Short  Rang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cae1"/>
                    </a:solidFill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</a:rPr>
                        <a:t>Medium Rang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cae1"/>
                    </a:solidFill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</a:rPr>
                        <a:t>Long Rang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cae1"/>
                    </a:solidFill>
                  </a:tcPr>
                </a:tc>
              </a:tr>
              <a:tr h="546120"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114480" indent="-114480">
                        <a:tabLst>
                          <a:tab algn="l" pos="0"/>
                          <a:tab algn="l" pos="11448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</a:rPr>
                        <a:t>Develop school capacity to use IC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cae1"/>
                    </a:solidFill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1920"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171360" indent="-17136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</a:rPr>
                        <a:t>Develop and support increased teacher capability to effectively use IC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cae1"/>
                    </a:solidFill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2280"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228600" indent="-228600"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</a:rPr>
                        <a:t>Develop and support increased student capability to access and use ICT resources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cae1"/>
                    </a:solidFill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79360"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228600" indent="-228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</a:rPr>
                        <a:t>Develop strategies to measure the effectiveness of ICT to improve student learning outcomes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cae1"/>
                    </a:solidFill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79360"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228600" indent="-228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</a:rPr>
                        <a:t>Improve your capability to use and model the application of ICT to support your work as a leader.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cae1"/>
                    </a:solidFill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B75D0-BA91-405F-BF99-D4FB68C0810E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42800" y="164880"/>
            <a:ext cx="8237520" cy="8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Module 4 | Activity 1</a:t>
            </a:r>
            <a:br>
              <a:rPr sz="2600"/>
            </a:br>
            <a:r>
              <a:rPr b="1" lang="en-US" sz="2600" spc="-1" strike="noStrike">
                <a:solidFill>
                  <a:srgbClr val="a6cae1"/>
                </a:solidFill>
                <a:latin typeface="Verdana"/>
              </a:rPr>
              <a:t>Creating Your Action </a:t>
            </a:r>
            <a:r>
              <a:rPr b="1" lang="en-US" sz="1800" spc="-1" strike="noStrike">
                <a:solidFill>
                  <a:srgbClr val="a6cae1"/>
                </a:solidFill>
                <a:latin typeface="Verdana"/>
              </a:rPr>
              <a:t>Plan-</a:t>
            </a:r>
            <a:r>
              <a:rPr b="0" i="1" lang="en-US" sz="1800" spc="-1" strike="noStrike">
                <a:solidFill>
                  <a:srgbClr val="ffffff"/>
                </a:solidFill>
                <a:latin typeface="Verdana"/>
              </a:rPr>
              <a:t>What can I PERSONALLY do…</a:t>
            </a:r>
            <a:br>
              <a:rPr sz="1800"/>
            </a:b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252360" y="1017720"/>
          <a:ext cx="8350200" cy="5254560"/>
        </p:xfrm>
        <a:graphic>
          <a:graphicData uri="http://schemas.openxmlformats.org/drawingml/2006/table">
            <a:tbl>
              <a:tblPr/>
              <a:tblGrid>
                <a:gridCol w="2832120"/>
                <a:gridCol w="1938240"/>
                <a:gridCol w="1744920"/>
                <a:gridCol w="1834920"/>
              </a:tblGrid>
              <a:tr h="444240">
                <a:tc>
                  <a:txBody>
                    <a:bodyPr lIns="92160" rIns="92160" tIns="46080" bIns="46080" anchor="ctr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</a:rPr>
                        <a:t>Leadership Action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cae1"/>
                    </a:solidFill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</a:rPr>
                        <a:t>Short  Rang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cae1"/>
                    </a:solidFill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</a:rPr>
                        <a:t>Medium Rang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cae1"/>
                    </a:solidFill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</a:rPr>
                        <a:t>Long Rang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cae1"/>
                    </a:solidFill>
                  </a:tcPr>
                </a:tc>
              </a:tr>
              <a:tr h="527040"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114480" indent="-114480">
                        <a:tabLst>
                          <a:tab algn="l" pos="0"/>
                          <a:tab algn="l" pos="11448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</a:rPr>
                        <a:t>Develop school capacity to use IC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cae1"/>
                    </a:solidFill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2280"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171360" indent="-17136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</a:rPr>
                        <a:t>Develop and support increased teacher capability to effectively use IC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cae1"/>
                    </a:solidFill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1920"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228600" indent="-228600"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</a:rPr>
                        <a:t>Develop and support increased student capability to access and use ICT resources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cae1"/>
                    </a:solidFill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79360"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228600" indent="-228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</a:rPr>
                        <a:t>Develop strategies to measure the effectiveness of ICT to improve student learning outcomes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cae1"/>
                    </a:solidFill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79720"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228600" indent="-228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</a:rPr>
                        <a:t>Improve your capacity to use and model the application of ICT to support your work as a leader.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cae1"/>
                    </a:solidFill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B2B08-0977-424B-9AA1-10E0FCF3FBBA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Viewing the Action Plan Template</a:t>
            </a:r>
            <a:br>
              <a:rPr sz="2600"/>
            </a:b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Action Plan - </a:t>
            </a:r>
            <a:r>
              <a:rPr b="0" i="1" lang="en-US" sz="2000" spc="-1" strike="noStrike">
                <a:solidFill>
                  <a:srgbClr val="ffffff"/>
                </a:solidFill>
                <a:latin typeface="Verdana"/>
              </a:rPr>
              <a:t>What can I PERSONALLY do…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228600" y="1015920"/>
          <a:ext cx="8667720" cy="5772240"/>
        </p:xfrm>
        <a:graphic>
          <a:graphicData uri="http://schemas.openxmlformats.org/drawingml/2006/table">
            <a:tbl>
              <a:tblPr/>
              <a:tblGrid>
                <a:gridCol w="2940120"/>
                <a:gridCol w="2011320"/>
                <a:gridCol w="1811160"/>
                <a:gridCol w="1905120"/>
              </a:tblGrid>
              <a:tr h="309600">
                <a:tc>
                  <a:txBody>
                    <a:bodyPr lIns="92160" rIns="92160" tIns="46080" bIns="46080" anchor="ctr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</a:rPr>
                        <a:t>Leadership Action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cae1"/>
                    </a:solidFill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</a:rPr>
                        <a:t>Short  Rang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cae1"/>
                    </a:solidFill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</a:rPr>
                        <a:t>Medium Rang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cae1"/>
                    </a:solidFill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</a:rPr>
                        <a:t>Long Rang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cae1"/>
                    </a:solidFill>
                  </a:tcPr>
                </a:tc>
              </a:tr>
              <a:tr h="744480"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114480" indent="-114480">
                        <a:tabLst>
                          <a:tab algn="l" pos="0"/>
                          <a:tab algn="l" pos="11448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</a:rPr>
                        <a:t>Develop school capacity to use IC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cae1"/>
                    </a:solidFill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view current ICT integration plan/strategi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2280"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171360" indent="-17136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</a:rPr>
                        <a:t>Develop and support increased teacher capability to effectively use IC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cae1"/>
                    </a:solidFill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eachers complete ePotential Survey - ICT use in the classroom. Analys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96800"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228600" indent="-228600"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</a:rPr>
                        <a:t>Develop and support increased student capability to access and use ICT resources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cae1"/>
                    </a:solidFill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nventory ICT tools Review Resources section - ePotential survey results. What is being used/not used?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79720"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228600" indent="-228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</a:rPr>
                        <a:t>Develop strategies to measure the effectiveness of ICT to improve student learning outcomes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cae1"/>
                    </a:solidFill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et tech system to collect and analyse student dat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79360"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228600" indent="-228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</a:rPr>
                        <a:t>Improve your capacity to use and model the application of ICT to support your work as a leader.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cae1"/>
                    </a:solidFill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odel the use of ICT in your daily work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2160" marR="9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FAD82-D5D1-4BFA-A8AB-83F34CFEDA0D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Module 4 | Activity 2</a:t>
            </a:r>
            <a:br>
              <a:rPr sz="2600"/>
            </a:br>
            <a:r>
              <a:rPr b="1" lang="en-US" sz="2600" spc="-1" strike="noStrike">
                <a:solidFill>
                  <a:srgbClr val="a6cae1"/>
                </a:solidFill>
                <a:latin typeface="Verdana"/>
              </a:rPr>
              <a:t>Sharing Your Action Plan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760" y="1179000"/>
            <a:ext cx="8237520" cy="453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462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What challenges might you face when you implement your plan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How do you plan to involve key stakeholders and bring them on board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What are the immediate actions you will take toward implementing your plan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What will you do personally to advance effective ICT integration in your schoo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2D814-1212-4D36-B3D5-0DC5FC9AD76F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Module 4 | Activity 3</a:t>
            </a:r>
            <a:br>
              <a:rPr sz="2600"/>
            </a:br>
            <a:r>
              <a:rPr b="1" lang="en-US" sz="2600" spc="-1" strike="noStrike">
                <a:solidFill>
                  <a:srgbClr val="a6cae1"/>
                </a:solidFill>
                <a:latin typeface="Verdana"/>
              </a:rPr>
              <a:t>Concluding the Forum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85640" y="1252080"/>
            <a:ext cx="83534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7840" indent="-177840">
              <a:spcBef>
                <a:spcPts val="15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tep 1: Revisiting the Forum Goals and Essential Questio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78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406440" indent="-177840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What are the next steps to support the integration of ICT in your school?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406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406440" indent="-177840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How can educational leaders support teacher effectiveness to improve student achievement?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4064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176040" indent="-176040">
              <a:spcBef>
                <a:spcPts val="1001"/>
              </a:spcBef>
              <a:buClr>
                <a:srgbClr val="ffffff"/>
              </a:buClr>
              <a:buSzPct val="12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tep 2: Focusing on Next Step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176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406440" indent="-177840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ontinue to build on your action pla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FFD96-5F9B-4917-8134-BA87B5F53F54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Module 4 | Activity 3: Concluding the Forum</a:t>
            </a:r>
            <a:br>
              <a:rPr sz="2600"/>
            </a:b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Step 3: </a:t>
            </a:r>
            <a:r>
              <a:rPr b="1" lang="en-US" sz="2600" spc="-1" strike="noStrike">
                <a:solidFill>
                  <a:srgbClr val="a6cae1"/>
                </a:solidFill>
                <a:latin typeface="Verdana"/>
              </a:rPr>
              <a:t>Reflecting on Lessons Learned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5c00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ff5c00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ff5c00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ff5c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ff5c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c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ff5c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ff5c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ff5c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ff5c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a6cae1"/>
                </a:solidFill>
                <a:latin typeface="Verdana"/>
              </a:rPr>
              <a:t>6.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Adjust action pla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c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ff5c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ff5c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ff5c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a6cae1"/>
                </a:solidFill>
                <a:latin typeface="Verdana"/>
              </a:rPr>
              <a:t>5.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Evaluate progres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c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ff5c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ff5c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a6cae1"/>
                </a:solidFill>
                <a:latin typeface="Verdana"/>
              </a:rPr>
              <a:t>4.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Take actio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c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a6cae1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a6cae1"/>
                </a:solidFill>
                <a:latin typeface="Verdana"/>
              </a:rPr>
              <a:t>3.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Continue to explore resource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c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a6cae1"/>
                </a:solidFill>
                <a:latin typeface="Verdana"/>
              </a:rPr>
              <a:t>2.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Complete your action pla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Reflect on learning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e647"/>
                </a:solidFill>
                <a:latin typeface="Verdana"/>
              </a:rPr>
              <a:t>Does your school have a current eLearning Plan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4D3EA-37E1-4822-947C-30A2EFF61854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Module 4 | Activity 4</a:t>
            </a:r>
            <a:br>
              <a:rPr sz="2600"/>
            </a:br>
            <a:r>
              <a:rPr b="1" lang="en-US" sz="2600" spc="-1" strike="noStrike">
                <a:solidFill>
                  <a:srgbClr val="a6cae1"/>
                </a:solidFill>
                <a:latin typeface="Verdana"/>
              </a:rPr>
              <a:t>Evaluating Your Forum Experience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articipate in an online survey, conducted by Deakin University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he URL is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http://secure.saltgroup.com.au/leadershipforumsurvey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he password is 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leader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2F5D1-6351-4049-B455-D95D6DC4D645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Module 4 Summary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760" y="1155240"/>
            <a:ext cx="8237520" cy="45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Key Points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n Action Plan includes short-, medium-, and long-range goals that are realistic and achievabl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n Action Plan aligns to leadership standards and involves key stakeholders throughout the pla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n Action Plan includes available resources necessary to attain goals identified in the short-, medium-, and long-range time fram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ontinuous reflection, evaluation of progress, and adjustments to your action items are important to your plan’s overall succes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Leadership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732960" y="678960"/>
            <a:ext cx="8991720" cy="562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chool leaders are key actors in </a:t>
            </a:r>
            <a:r>
              <a:rPr b="1" lang="en-US" sz="1800" spc="-1" strike="noStrike">
                <a:solidFill>
                  <a:srgbClr val="f5e647"/>
                </a:solidFill>
                <a:latin typeface="Verdana"/>
              </a:rPr>
              <a:t>re-imagining schools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for a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Digital future. They have to recognise that their</a:t>
            </a:r>
            <a:r>
              <a:rPr b="0" lang="en-US" sz="1800" spc="-1" strike="noStrike">
                <a:solidFill>
                  <a:srgbClr val="f5e647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5e647"/>
                </a:solidFill>
                <a:latin typeface="Verdana"/>
              </a:rPr>
              <a:t>students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are a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resource to be unleashed; that they have the knowledge, skill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nd understanding to </a:t>
            </a:r>
            <a:r>
              <a:rPr b="1" lang="en-US" sz="1800" spc="-1" strike="noStrike">
                <a:solidFill>
                  <a:srgbClr val="f5e647"/>
                </a:solidFill>
                <a:latin typeface="Verdana"/>
              </a:rPr>
              <a:t>contribute to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and develop their ow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learning experience.  This approach to teaching can be scaled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up to </a:t>
            </a:r>
            <a:r>
              <a:rPr b="1" lang="en-US" sz="1800" spc="-1" strike="noStrike">
                <a:solidFill>
                  <a:srgbClr val="f5e647"/>
                </a:solidFill>
                <a:latin typeface="Verdana"/>
              </a:rPr>
              <a:t>reframe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the role that young people play in the whol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chool system.  Leaders need to </a:t>
            </a:r>
            <a:r>
              <a:rPr b="1" lang="en-US" sz="1800" spc="-1" strike="noStrike">
                <a:solidFill>
                  <a:srgbClr val="f5e647"/>
                </a:solidFill>
                <a:latin typeface="Verdana"/>
              </a:rPr>
              <a:t>think innovatively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about th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5e647"/>
                </a:solidFill>
                <a:latin typeface="Verdana"/>
              </a:rPr>
              <a:t>resources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already within their school and how to mobilise them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ll to make maximum impact from invigorating ICT lessons, to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embedding technologies across the curriculum.  This is abou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ocusing on </a:t>
            </a:r>
            <a:r>
              <a:rPr b="1" lang="en-US" sz="1800" spc="-1" strike="noStrike">
                <a:solidFill>
                  <a:srgbClr val="f5e647"/>
                </a:solidFill>
                <a:latin typeface="Verdana"/>
              </a:rPr>
              <a:t>small levers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with the potential to create big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hange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Their Space - Education for a digital generation, Green and Hannon, Demos 2007</a:t>
            </a:r>
            <a:r>
              <a:rPr b="0" lang="en-US" sz="600" spc="-1" strike="noStrike">
                <a:solidFill>
                  <a:srgbClr val="ffffff"/>
                </a:solidFill>
                <a:latin typeface="Verdana"/>
              </a:rPr>
              <a:t> p 66</a:t>
            </a:r>
            <a:endParaRPr b="0" lang="en-US" sz="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6594F-A704-4434-9038-D36DECCF993B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392040" y="78696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Thank you for participating in the Intel</a:t>
            </a:r>
            <a:r>
              <a:rPr b="0" lang="en-US" sz="2200" spc="-1" strike="noStrike" baseline="30000">
                <a:solidFill>
                  <a:srgbClr val="ffffff"/>
                </a:solidFill>
                <a:latin typeface="Verdana"/>
              </a:rPr>
              <a:t>®</a:t>
            </a: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 Teach Leadership Forum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We appreciate your hard work, deep thinking, and commitment to ICT integration!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For further information please visit:  www.intel.com/education/au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Or contact Janice Youl youl.janice.e@edumail.vic.gov.au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860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10" descr="intelEDU_wht_lrg [Converted]"/>
          <p:cNvPicPr/>
          <p:nvPr/>
        </p:nvPicPr>
        <p:blipFill>
          <a:blip r:embed="rId1"/>
          <a:stretch/>
        </p:blipFill>
        <p:spPr>
          <a:xfrm>
            <a:off x="2217600" y="1908000"/>
            <a:ext cx="4953240" cy="2475000"/>
          </a:xfrm>
          <a:prstGeom prst="rect">
            <a:avLst/>
          </a:prstGeom>
          <a:ln w="0">
            <a:noFill/>
          </a:ln>
        </p:spPr>
      </p:pic>
      <p:sp>
        <p:nvSpPr>
          <p:cNvPr id="204" name="Text Box 12"/>
          <p:cNvSpPr/>
          <p:nvPr/>
        </p:nvSpPr>
        <p:spPr>
          <a:xfrm>
            <a:off x="484200" y="6548400"/>
            <a:ext cx="6451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Verdana"/>
              </a:rPr>
              <a:t>Copyright © 2006 Intel Corporation. All rights reserved. Intel and the Intel logo are trademarks or registered trademarks of Intel Corporation </a:t>
            </a:r>
            <a:endParaRPr b="0" lang="en-US" sz="7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Verdana"/>
              </a:rPr>
              <a:t>or its subsidiaries in the United States and other countries.  *Other names and brands may be claimed as the property of others.</a:t>
            </a:r>
            <a:endParaRPr b="0" lang="en-US" sz="7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2B7C0-8F17-4A92-956D-AB26D2EC1BF1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Getting Started</a:t>
            </a: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  </a:t>
            </a:r>
            <a:br>
              <a:rPr sz="2600"/>
            </a:br>
            <a:r>
              <a:rPr b="1" lang="en-US" sz="2200" spc="-1" strike="noStrike">
                <a:solidFill>
                  <a:srgbClr val="a6cae1"/>
                </a:solidFill>
                <a:latin typeface="Verdana"/>
              </a:rPr>
              <a:t>Clarifying Assumptions</a:t>
            </a:r>
            <a:endParaRPr b="1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Leaders who support teacher effectiveness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…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Believe that </a:t>
            </a:r>
            <a:r>
              <a:rPr b="1" lang="en-US" sz="1800" spc="-1" strike="noStrike">
                <a:solidFill>
                  <a:srgbClr val="f5e647"/>
                </a:solidFill>
                <a:latin typeface="Verdana"/>
              </a:rPr>
              <a:t>ICT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is important and </a:t>
            </a:r>
            <a:r>
              <a:rPr b="1" lang="en-US" sz="1800" spc="-1" strike="noStrike">
                <a:solidFill>
                  <a:srgbClr val="f5e647"/>
                </a:solidFill>
                <a:latin typeface="Verdana"/>
              </a:rPr>
              <a:t>makes a difference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in teaching and learning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re </a:t>
            </a:r>
            <a:r>
              <a:rPr b="1" lang="en-US" sz="1800" spc="-1" strike="noStrike">
                <a:solidFill>
                  <a:srgbClr val="f5e647"/>
                </a:solidFill>
                <a:latin typeface="Verdana"/>
              </a:rPr>
              <a:t>enthusiastic</a:t>
            </a:r>
            <a:r>
              <a:rPr b="0" lang="en-US" sz="1800" spc="-1" strike="noStrike">
                <a:solidFill>
                  <a:srgbClr val="567eb9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bout ICT and supporting their teacher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Believe that this is the </a:t>
            </a:r>
            <a:r>
              <a:rPr b="1" lang="en-US" sz="1800" spc="-1" strike="noStrike">
                <a:solidFill>
                  <a:srgbClr val="f5e647"/>
                </a:solidFill>
                <a:latin typeface="Verdana"/>
              </a:rPr>
              <a:t>right thing to do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for student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98AD8-5AD6-46B1-8E86-A3E377BAF49D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Forum Agenda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28680" y="119340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Getting Started |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Introducing the Forum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Module 1 |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Examining Leadership Behaviours and Standard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Module 2 |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Exploring Best Practices and Resource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Module 3 |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Introducing Web 2.0 and New ICT Resources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Module 4 |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Developing Your Action Pla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0210E-26A0-4183-91EF-98A86DFD8E4B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Getting Started</a:t>
            </a: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 </a:t>
            </a:r>
            <a:br>
              <a:rPr sz="2600"/>
            </a:br>
            <a:r>
              <a:rPr b="1" lang="en-US" sz="2400" spc="-1" strike="noStrike">
                <a:solidFill>
                  <a:srgbClr val="a6cae1"/>
                </a:solidFill>
                <a:latin typeface="Verdana"/>
              </a:rPr>
              <a:t>Summary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spcBef>
                <a:spcPts val="134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ICT integration is the process of teachers and students routinely and seamlessly using ICT resources and ICT-based practices to enhance learning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28600" indent="-228600">
              <a:spcBef>
                <a:spcPts val="134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he Leadership Forum will help you plan, promote, model, and support effective ICT integratio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28600" indent="-228600">
              <a:spcBef>
                <a:spcPts val="134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Developing an Action Plan enables you to proactively plan specific actions that you can take to promote and encourage the effective integration of ICT to improve teaching and learning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43DE5-779B-4D6C-843F-EE50C173BA79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Module 1</a:t>
            </a:r>
            <a:br>
              <a:rPr sz="2600"/>
            </a:br>
            <a:r>
              <a:rPr b="1" lang="en-US" sz="2400" spc="-1" strike="noStrike">
                <a:solidFill>
                  <a:srgbClr val="a6cae1"/>
                </a:solidFill>
                <a:latin typeface="Verdana"/>
              </a:rPr>
              <a:t>Examining Leadership </a:t>
            </a:r>
            <a:r>
              <a:rPr b="1" lang="en-US" sz="2400" spc="-1" strike="noStrike">
                <a:solidFill>
                  <a:srgbClr val="bccdf9"/>
                </a:solidFill>
                <a:latin typeface="Verdana"/>
              </a:rPr>
              <a:t>and ICT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15800" y="19634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Module Questions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What do you believe are the most important leadership actions that can support of ICT integration?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What are the essential conditions for school leaders to consider around supporting ICT integration?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409C6-61E1-489B-9811-4DC19FF895FF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Module 1 | Activity 1</a:t>
            </a:r>
            <a:br>
              <a:rPr sz="2600"/>
            </a:br>
            <a:r>
              <a:rPr b="1" lang="en-US" sz="2400" spc="-1" strike="noStrike">
                <a:solidFill>
                  <a:srgbClr val="a6cae1"/>
                </a:solidFill>
                <a:latin typeface="Verdana"/>
              </a:rPr>
              <a:t>Previewing International and Australian Standards 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760" y="1523880"/>
            <a:ext cx="82375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Australian State Departments of Educatio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Links to the various state departments of education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ICT standards and frameworks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ISTE – International Society for Technology in Educatio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for Leaders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for Teachers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for Students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Essential Conditions – help to effectively leverage ICT integration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6364440" y="1278000"/>
            <a:ext cx="2779560" cy="186516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1573200" y="2490840"/>
            <a:ext cx="299736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Slide Number Placeholder 3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79EB1-DDF4-4449-8479-425B7E03BD96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39760" y="196560"/>
            <a:ext cx="890424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Module 1 | Activity 2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Learning Through Ranking</a:t>
            </a:r>
            <a:br>
              <a:rPr sz="2200"/>
            </a:b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462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Essential Conditions to Effectively Leverage ICT for Learning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81" name="Picture 4" descr="EC.jpg"/>
          <p:cNvPicPr/>
          <p:nvPr/>
        </p:nvPicPr>
        <p:blipFill>
          <a:blip r:embed="rId1"/>
          <a:stretch/>
        </p:blipFill>
        <p:spPr>
          <a:xfrm>
            <a:off x="895320" y="1862280"/>
            <a:ext cx="7257960" cy="43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30T05:19:46Z</dcterms:created>
  <dc:creator>Dan Morris</dc:creator>
  <dc:description/>
  <dc:language>en-US</dc:language>
  <cp:lastModifiedBy>trudy brentnall</cp:lastModifiedBy>
  <dcterms:modified xsi:type="dcterms:W3CDTF">2009-03-26T01:25:35Z</dcterms:modified>
  <cp:revision>257</cp:revision>
  <dc:subject/>
  <dc:title>Forum Presentation</dc:title>
</cp:coreProperties>
</file>